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030-81C7-413B-9CD9-D5F9F2FF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58D-C664-41D8-8943-21E6F4A6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08A-DFAF-45C5-9B92-30E39E42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D5E-4CD6-4AC4-A9C9-E92F8559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165-0D12-44DE-B11C-85D59D3C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5F5-736E-4C49-B643-63788E88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F14-C6D8-427C-B816-4C9C322B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37C-8639-4ACF-AED1-65EBEF4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C77-F59D-4A4F-B8B1-B92B1C6D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F36-35C2-4BC9-BD57-A32A0E87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4E2-08A9-403B-9A70-AEEBD069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682-2CF4-41FF-9B5C-C80E52A5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BA13-3065-47F7-9401-5C1E8AD16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ly Source of all tha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the eternal 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Jesus Chr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easelessly breathing the Spir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cre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trust in God’s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isdo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ully revealed in the huma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esent to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Spirit’s wo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Church and beyo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that God is call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hol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a future of justice and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hare in Christ’s risen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mit ourselves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rece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ing reign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the only God, Three yet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all honour and glory and pra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08:39Z</dcterms:created>
  <dc:creator>Anon Anon</dc:creator>
  <dc:description/>
  <dc:language>en-US</dc:language>
  <cp:lastModifiedBy>Anon Anon</cp:lastModifiedBy>
  <dcterms:modified xsi:type="dcterms:W3CDTF">2005-08-09T05:03:36Z</dcterms:modified>
  <cp:revision>7</cp:revision>
  <dc:subject/>
  <dc:title>PowerPoint Presentation</dc:title>
</cp:coreProperties>
</file>